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97A6-FD64-40A6-8D92-724E6F33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90D-2D66-4254-B826-608E65E5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36C-9A40-4F21-8959-ADFE26FB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DC8-97C6-485B-8EBD-9A715340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49A1-94E7-4B17-BC2B-C90FCECF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0E82-B942-4F5B-A2CD-13A7E049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BF97-6CAD-474B-901B-E2D84B29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2922-EAE0-461C-B865-5672FA4F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9713-10B1-4AD2-8C8A-6DC9297D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0B3F-34BC-41F7-9C1A-E9FFA0E1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B4E4-EBC1-4356-A357-CC511819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FC5C-B780-4491-A22C-D2F6A211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7D4C-2336-4334-A80C-AD48B6A6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A581-63FE-42FC-9363-F95B6EAC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7F0B-3683-40AB-A8A9-858A8FE2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AA55-E0E2-4D2E-B97E-263C680E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865E-1C82-4AE5-A868-8DDC0F87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B0364-D724-443D-B301-8CB0F2E1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B63FD-4C67-48C7-8C6A-2D2E2048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FFEB3-347E-48C4-A42E-5988F89A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D1FE2-F0EB-469C-AFC6-33BFDCBF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A50B-7A2D-4E7E-A84E-DB4D0EBA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BAED-1831-4E8C-9F59-47C66017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D635B-9385-4858-BF52-CCEAB1F8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50112-38EB-443C-8216-F656B08D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33734-DC35-412A-BF41-9441B235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3E1AF-33DE-48E9-A032-8BF8D904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A3E49-ABD3-407F-B342-403A58D4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17926-8574-4051-AB03-37E138F7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7A9DA-9473-49A2-A6C5-41F36E73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AF7AE-7A71-4BDD-9065-FE1B5B27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56AA5-96C7-4B37-BF3F-7C93DB62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F2ADB-C94F-4F95-951B-ED8A5BA2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0351-DCC5-45A1-80BA-AC8FC8D6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EB7EF-644D-477F-8DC0-307AA80D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EE7D1-6DBC-4C2A-BCD1-57AC65EB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A5884-00C5-470C-9628-52056B3C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5FF70-666A-43C6-96A2-D59898EB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F78C9-C25D-41ED-A649-70DE293F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171D2-3915-4D1A-BB0C-B6247658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575A3-F407-4092-A9FF-642918FD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39A35-55AD-4CF5-A892-70EE313B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0FC13-4794-430A-A34F-6E11F8DC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E8D36-EEBC-402F-B8A4-268F47E3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E78-2CD4-438D-9BFE-5E31D413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575A6-0BF8-40C7-B1A5-AAFC16B7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91622-D9CB-4478-A8C9-6B1C8D68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13AEF-7C8F-4B5D-8179-ECABFA39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0F84B-9EF0-49BD-B27E-C9B82262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786E6-5235-460F-978A-90B8B850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56772-7EE8-4F56-87B3-701B041D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A9A3B-E94F-42D8-9DF2-A6BCE0D6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F8DEF-D742-4BA4-9B0B-D6DD533F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B6AA6-81E7-4F35-827C-592E9F7B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322E1-2CD9-4FDD-ABA8-A60B0CDB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7DED-6A30-4658-86D7-12653EB6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38911-4EB6-4FC2-ABD9-460C4559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390A5-6661-46E4-B81A-1525D43D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C3175-174D-4008-BEA4-7CD3D16C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669C0-C4D3-4030-99E2-9A6FECE6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183BB-8A37-45E0-8FC9-8F9AA572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FFB5B-9240-400B-9F91-E3507686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8ED52-4E12-456C-BB70-78D2359C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20901-B31F-4259-8BBE-067BE63A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A3E81-6155-440C-905E-DDA7E8C0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4A2B3-6237-4495-BFF6-C2C5AA26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C50-8D86-488B-97BF-2D42AC36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8A257-F073-4887-81B7-9B73E5F4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78494-6777-4272-BDBA-0EC82F46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3D7AD-402E-497D-96D7-F9724702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7FC-3AF6-4E35-B140-39BEE9AD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B98-2E5E-452C-BD98-ADF09AF7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F87D-45B2-495E-BE42-2CCD8955860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BD1A-A76F-4AB9-B065-55AC4974DED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8CE0-7102-47E4-91CA-18BAEF35AB1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52C0-9DC7-4557-9841-E264979A8F54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6B52-1C3C-4A65-85B6-C648003AA97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7FB6-3576-46CF-A628-F572E2FE7CE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6D68-7633-4403-B9AE-289687A53092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A040-6732-411D-BAFA-68C9DCE532F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84CA-D57E-4EFF-9CC4-FC4763646F53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9615-DA0C-43B7-92D1-5694B470CC4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74F2-EDAA-44CF-90F9-91926DCAE5C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BA12-F6B2-4855-A051-BF81F675AF0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emanuel.dantas@previdencia.gov.br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9922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Calibri"/>
              </a:rPr>
              <a:t>REAJUSTAMENTO DE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Calibri"/>
              </a:rPr>
              <a:t>BENEFÍCI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95160" y="2707920"/>
            <a:ext cx="97221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 reajuste dos benefícios, em 2017, foi editado pela Portaria nº 08, de 13 de janeiro de 201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623880" y="1267920"/>
            <a:ext cx="9793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Índice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e reajustamento: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6,5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imit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mínim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o salário de contribuição e salário de benefício: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$ 937,00, reajuste de 6,48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imit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máxim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o salário de contribuição e salário de benefício: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$ 5.531,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50440" y="765000"/>
            <a:ext cx="98665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FATOR DE REAJUSTE DOS BENEFÍCIOS CONCEDIDOS DE ACORDO COM AS RESPECTIVAS DATAS DE INÍCIO, APLICÁVEL A PARTIR DE JANEIRO DE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Imagem 2" descr=""/>
          <p:cNvPicPr/>
          <p:nvPr/>
        </p:nvPicPr>
        <p:blipFill>
          <a:blip r:embed="rId1"/>
          <a:stretch/>
        </p:blipFill>
        <p:spPr>
          <a:xfrm>
            <a:off x="407880" y="1484280"/>
            <a:ext cx="10009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tângulo 4"/>
          <p:cNvSpPr/>
          <p:nvPr/>
        </p:nvSpPr>
        <p:spPr>
          <a:xfrm>
            <a:off x="1631880" y="907920"/>
            <a:ext cx="864072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TABELA DE CONTRIBUIÇÃO DOS SEGURADOS EMPREGADO, EMPREGADO DOMÉSTICO E TRABALHADOR AVULSO, PARA PAGAMENTO DE REMUNERAÇÃO A PARTIR DE 1º DE JANEIRO DE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Imagem 3" descr=""/>
          <p:cNvPicPr/>
          <p:nvPr/>
        </p:nvPicPr>
        <p:blipFill>
          <a:blip r:embed="rId1"/>
          <a:stretch/>
        </p:blipFill>
        <p:spPr>
          <a:xfrm>
            <a:off x="407880" y="2565360"/>
            <a:ext cx="100094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07520" y="1773360"/>
            <a:ext cx="107283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A partir de 1º de janeiro de 2017, não terão valores inferiores a 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R$ 937,00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, os benefícios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GP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Benefícios Assistenciai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ncargos Previdenciários da União - EP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558440" y="907920"/>
            <a:ext cx="892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Seletividade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do auxílio-reclusão e salário-famíli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salário de contribuição igual ou inferior a 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R$ 1.292,4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otas do salário famíli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 - Para o segurado com remuneração mensal não superior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$ 859,88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R$ 44,09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I - Para o segurado com remuneração mensal superior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$ 859,88 e igual ou inferior a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$ 1.292,43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R$ 31,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92240" y="260280"/>
            <a:ext cx="82296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uito obrigad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Emanuel de Araújo Dan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iretor do Regime Geral de Previdência Social/SPPS/M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0" lang="pt-BR" sz="3200" spc="-1" strike="noStrike" u="sng">
                <a:solidFill>
                  <a:srgbClr val="9454c3"/>
                </a:solidFill>
                <a:uFillTx/>
                <a:latin typeface="Calibri"/>
                <a:hlinkClick r:id="rId1"/>
              </a:rPr>
              <a:t>emanuel.dantas@previdencia.gov.b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one: (61) 2021-52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6-11-07T18:06:02Z</cp:lastPrinted>
  <dcterms:modified xsi:type="dcterms:W3CDTF">2017-02-14T13:17:09Z</dcterms:modified>
  <cp:revision>352</cp:revision>
  <dc:subject/>
  <dc:title>Demografia</dc:title>
</cp:coreProperties>
</file>